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0CB-F6FD-4180-A99C-D529BC06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D9B-B5B2-42FA-919D-C7BC934D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1B9-1BCA-4CAC-A231-23EC90CD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400-6963-41E2-BE52-ACD5CB04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6DC-6737-40BF-8E90-F7005FF4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F82-D027-4428-9751-75436EE3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45A-7418-4EE0-AD92-968856C8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A1E-2A51-4B8A-B8D2-3D20F83A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FD1-BE31-4A4E-98E6-ABA0C7B2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362-5B30-4765-872C-C9D0C973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F3E-EAD6-4ABA-A276-13CAB3FF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409-589D-4E39-A46E-E096C9BE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2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EC7D-3878-49C8-9DD8-C970460D3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Washington School</a:t>
            </a:r>
            <a:br>
              <a:rPr sz="5400"/>
            </a:b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Kindergarten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pic>
        <p:nvPicPr>
          <p:cNvPr id="42" name="Picture 5" descr="MPj04395080000[1]"/>
          <p:cNvPicPr/>
          <p:nvPr/>
        </p:nvPicPr>
        <p:blipFill>
          <a:blip r:embed="rId1"/>
          <a:stretch/>
        </p:blipFill>
        <p:spPr>
          <a:xfrm>
            <a:off x="3048120" y="2590920"/>
            <a:ext cx="2714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4. Vocabulary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words students acquire, the better chance they will have for success in reading and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2216160" cy="288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3657600" y="3124080"/>
            <a:ext cx="2257560" cy="289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6400800" y="3200400"/>
            <a:ext cx="2205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5. Comprehension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questions and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of literature (characters, setting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ety of literature 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curricular areas (math, social studies, science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Assessment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ups on taught skills every 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semester cumulative summ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testing (Measures of Academic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BELS testing (Dynamic Indicators of Basic Early Literacy 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Writers’ Workshop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rocal to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s begin with group mini-lesson and then students write 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Genres t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(“How To …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mini-les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enting print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end punc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ing spaces betwee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Handwriting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son Handwrit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to correct letter and number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pos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-to-righ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 g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motor activities to enh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Math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endar/Counting M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 Foresman Investigation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e with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c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Math Skills Explored</a:t>
            </a:r>
            <a:r>
              <a:rPr b="0" lang="en-US" sz="4400" spc="-1" strike="noStrike">
                <a:solidFill>
                  <a:srgbClr val="fec2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and extending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numbers up to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numerals correctly up to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ing to 30 with one to one correspo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ing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 by 1s, 10s, and 10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sets and l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and subtra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Social Studies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s self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s ideas of history, economics, geography, civics and govt. through developmentally appropriat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cus on events in our nation’s history and cultures in other part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through literature, artifacts, field trips, speaker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Character Education:</a:t>
            </a:r>
            <a:br>
              <a:rPr sz="5400"/>
            </a:b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Heartwood Program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attributes are featured through stories, discussion an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./Oct. – Re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– Hone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–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–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– Cou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– Loya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- H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Science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 unit focusing on tr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al changes, wetlands, seed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-on activities, field trips, models, artifacts, speakers, investigations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skill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ef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Collec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Drawing conclu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The Kindergarten Year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year of tremendous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the whole child in kinderg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academic, social, emotional and behavior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in the year - focus on getting used to school and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kills still developing – teachabl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exciting and overwhelming at tim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Technology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IA and Starfall programs to support early re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math sites to practice math skills of patterning, matching, adding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s to provide information and games on social science concepts (recycling, animals, insects, birds, artists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by classroom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and art are a part of every kindergarten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m time once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class once a week with Mrs.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Special Subjects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Class Schedule</a:t>
            </a:r>
            <a:r>
              <a:rPr b="0" lang="en-US" sz="4400" spc="-1" strike="noStrike">
                <a:solidFill>
                  <a:srgbClr val="fec2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Arial"/>
              </a:rPr>
              <a:t>* 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This typical schedule may vary due to special programs.  Computer, art, and social studies and science are integrated throughout the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s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Kindergarten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dge of Allegi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view of dail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ndar/Counting M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s and mont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s of sch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Number of students in atten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nu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Patterns on the cale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Lesson/Librar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Class Schedule cont.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enter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moves into small-group or independent learn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facilitated small group phonics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e related activities utilizing art, math or science, fine motor, computer, and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/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’ Workshop/Math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 up/Dismis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Miscellaneous Information</a:t>
            </a:r>
            <a:br>
              <a:rPr sz="4000"/>
            </a:b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pa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Tr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bs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rop-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th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724280" y="1676520"/>
            <a:ext cx="3886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/Show &amp; T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/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mis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t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Kindergarten</a:t>
            </a:r>
            <a:r>
              <a:rPr b="0" lang="en-US" sz="5400" spc="-1" strike="noStrike">
                <a:solidFill>
                  <a:srgbClr val="0000cc"/>
                </a:solidFill>
                <a:latin typeface="Lucida Sans"/>
              </a:rPr>
              <a:t> </a:t>
            </a: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Curriculum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pic>
        <p:nvPicPr>
          <p:cNvPr id="46" name="Picture 4" descr="MCj04241680000[1]"/>
          <p:cNvPicPr/>
          <p:nvPr/>
        </p:nvPicPr>
        <p:blipFill>
          <a:blip r:embed="rId1"/>
          <a:stretch/>
        </p:blipFill>
        <p:spPr>
          <a:xfrm>
            <a:off x="2362320" y="1905120"/>
            <a:ext cx="434628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Language Arts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honemic awareness, phonics, decoding, high-frequency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eciation of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105520" y="1905120"/>
            <a:ext cx="312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Five Essential Elements of Reading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honem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h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l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1. Phonemic Awareness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e and manipulate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PA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beginning sound in t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nding sound in bi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two words begin with the same s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rhy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all of the sounds in h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2. Phonics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sounds to letters in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letters and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ing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bet taught in a unique order that is research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a few consonants are taught, then a vowel, and then blend these sounds to build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hort vowe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3. Fluency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quickly decode words or recognize sight words to make text flow smoothly (comes after lots of practic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read-aloud, small group, whole class, and individual o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ies read more than once to help children become more fluent re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Sight Words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kindergarten sight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to know them without sounding them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Know it Wor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6:03:31Z</dcterms:created>
  <dc:creator>Owner</dc:creator>
  <dc:description/>
  <dc:language>en-US</dc:language>
  <cp:lastModifiedBy>Auslander</cp:lastModifiedBy>
  <dcterms:modified xsi:type="dcterms:W3CDTF">2011-09-13T02:29:55Z</dcterms:modified>
  <cp:revision>74</cp:revision>
  <dc:subject/>
  <dc:title>Washington School Kindergarten</dc:title>
</cp:coreProperties>
</file>